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C9D-E08D-4D29-8324-6FEE5487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77F-53EA-4FC4-9AC9-7D09015E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2AE-53CA-4609-A004-1D8364D2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957-D0CA-4963-86E6-3FD288B7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7781-5B1A-4782-90B7-FE17F739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24CB-A0E9-423F-9F10-F772DDC9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FF9D-ABAB-4322-AFCF-A9516E54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7521-D268-4252-8385-E67C1BFB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87E3-2312-43DA-AC23-E07206D3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E481-AF5C-4BBC-BD78-95991852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694D-2B79-49F0-BFE9-58A8EA8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D6E-BE71-4E75-A769-93A3B7B5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F8DF-3E47-4500-AF78-FAFD4C7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DA2A-F9CD-487E-95F3-6A29B430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2E5A-B65E-471B-92B5-C3393AD2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A51C-F031-44E8-8FD2-174571C7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7272-3254-45E2-9A16-96301C57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E21-92C9-430A-B427-268FA5E4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E99-B131-4B8C-8BD5-5E5A4B66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ABC-EBCE-4BB1-B550-36DCC17A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619-F79E-40DA-978F-C2B3E91C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968-0BF0-4826-91A7-48488720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42A-B043-4D82-9B71-11DD1EFC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A38-152F-4C27-9BB1-7094F8B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2711-96DC-45E0-90EA-270617914E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9B9A-BB14-46DF-87C7-C9C40ED120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671480" y="907920"/>
            <a:ext cx="585324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Княз Борис І - Михаил</a:t>
            </a:r>
            <a:endParaRPr b="0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223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46101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През 886 година княз Борис І посреща Климент, Наум,  Ангеларий, Сава и Горазд в столицата Пли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В българия били създадени две  огнища на християнска книжнина на славянски ез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496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2673720"/>
            <a:ext cx="45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наз Борис І положил много усилия за създаване на отделна църк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з 870 Българската църква била призната от другите християнски цъ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16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В средата на ІХ век България се простира от Карпатите на север до Родопите на юг,от Черно море на изток до Охридското езеро на зап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5184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Европейските владетели не признавали българските владетели за рав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Наричали българите – езичниц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Не признавали подписаните договори с българските владетели, тъй като тези договори не били скреп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с клетвата в Б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427280" y="2205000"/>
            <a:ext cx="425916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Хан Борис, внукът на хан Омуртаг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решил да прием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християнската вя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и  да покръ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целия български нар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10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2061360"/>
            <a:ext cx="6551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Хан Борис разбрал, че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общата религия ще слее славяните и българите в един нар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ще направи българския владетел равен на европейските владе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- българската държава ще е равна на европейските държав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1480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400284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През 684 година от Цариград пристигнали духовници, които покръстили българския х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Борис приел името на своя кръстник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мператор Михаил ІІ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Arial"/>
              </a:rPr>
              <a:t>и се нарекъл кня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97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През 865година всички българи приемат хистиянств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С покръстването на княз Борис и народа България заела равностойно място сред другите европейски наро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ahoma"/>
              </a:rPr>
              <a:t>Много важно било новата религия да се изповядва на разбираем ези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ечат- Богородице 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омагай на Михаил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ладетел на Бълга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48360" y="4149720"/>
            <a:ext cx="3168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След приемането на християнството в България се настанили византийски свещеници. Езикът им звучал в църквите, в манастирите дори в княжеския дворец. Българският владетел “жадувал” за учени мъже и молел бога ден и нощ да му ги пра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1116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4365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През 855година светите братя Кирил и Методий създават славянската азбу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ahoma"/>
              </a:rPr>
              <a:t>Те превеждали християнските книги и проповеди на славянски ез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5398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4:49:28Z</dcterms:created>
  <dc:creator>Home</dc:creator>
  <dc:description/>
  <dc:language>en-US</dc:language>
  <cp:lastModifiedBy>Home</cp:lastModifiedBy>
  <dcterms:modified xsi:type="dcterms:W3CDTF">2012-10-14T08:31:50Z</dcterms:modified>
  <cp:revision>4</cp:revision>
  <dc:subject/>
  <dc:title>Слайд 1</dc:title>
</cp:coreProperties>
</file>